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5534-F2A6-4E6E-8432-D7E879280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D471-6E80-4A3A-8EFB-DF27A306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D196-AE4C-441A-8E0F-001DD113A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5D57-1327-4C05-BC5F-ED3C4FF12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2C19-D796-469C-8CBE-7BA7B9DB3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A15C-BAAD-411B-A462-BFC11841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BAD9-4C6C-45EE-9AC0-21F97AB4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BA1F-2F4A-4F83-98C4-85707311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B735-6496-4DBE-9BCF-4D8A482F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D596-A13D-4457-8E47-9EE6BCC8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5395-1AAD-48D7-98B6-55A41B9C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FF9B-90BE-4E58-8E7F-133C4D91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06C1-11A2-4A4E-81AD-C849E19A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BE8B-BC21-4A9C-85D2-887B138D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6FF6-EC8B-43FF-8492-94C99311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34C2-5C16-4E9C-966A-D655BEDE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28F0-0026-435A-92C6-B82C0A760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D358-1E54-49A7-9E68-6B6E8F21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96A0-5214-48FB-9BA9-63185104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DE3B-05CD-44DD-9A8F-D3D99A82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1B53-F882-4ACC-BC14-6F08FCDD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D4F5-64F3-43D5-8DE1-A7FD70B4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059E-5C99-4827-B95A-14A51A88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BC52-A8CA-4161-A631-65241D9B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C855-3BD6-4993-881D-B601CE5E771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408A-660E-4235-A051-24F2A677ED6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assignment revisited: interviewing and troubleshooting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earning English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sic Interviewing Skil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nsure the interviewee is comforta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xplain the purpose of the study  and give assurance of confidential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sk permission to recor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sk a series of ‘easy’ questions to start with (e.g. where are you from/how long have you been in England/at Aston?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ive the interviewee time to answer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n’t talk over the interviewe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nk about the kind of questions you ask (open/clos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 interested in the interviewee’s answers and respond to the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 interview is a social encounter: demonstrate interest in the interviewe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ferent kinds of intervie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mi-structu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uctu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mi-structured interview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viewer has a list of topics or questions to be cove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viewer can ask other questions not on the list or can ‘probe’ to get an expanded response e.g. a follow up question, a period of silence, back channel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interview can go ‘off track’ for some tim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a ‘case study’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61760" y="2361960"/>
            <a:ext cx="7769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velopment of detailed, intensive knowledge about a single ‘case’, or of a small number of related cases’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Robson 2002:89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Individual case stud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etailed account of one person.  Tends to focus on antecedents, contextual factors, perceptions and attitudes preceding a known outcome (e.g. drug use; immigrant status).  Used to explore possible causes, determinants, factors, processes, experiences etc., contributing to the outcome.’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  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Robson 2002:181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obson C. 2002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Real World Research.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dition. Oxford: Blackwel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to include in a Case Stud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verview: why the cs is taking place; the issues being investigated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ocedures: how data were collected including access arrangements, resources available, schedule of meetings and so on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port: divide into sections, for example –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ducational and cultural backgroun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urpose for studying English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xperience of language learning in UK and at hom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anguage learning preferenc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iteracy in different languag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ttitude to English and its place in the worl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ttitudes to his/her bilingualism/multilingualis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commendations (about how learner can develop his/her English with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ference to skills and systems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ference lis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ppendix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to do we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the interview data/learner’s work to illustrate your poi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the academic literature to develop your argument/substantiate a clai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rite clearly but formal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fer to reading/discussions from the module, where releva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the learner’s output to inform your recommendations for improveme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her consider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member, you need ethics approval BEFORE starting your research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nk about how to ensure your learner remains anonymou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lude a copy of your questions in the appendix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Jalal – Case Stud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at information does this case study offe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mment on the style of writ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y is the quotation included in ‘present situation’, do you thin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o are the ‘Points to Consider’ written for, do you thin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</cp:lastModifiedBy>
  <dcterms:modified xsi:type="dcterms:W3CDTF">2008-12-08T17:58:4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